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5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636B-4B61-45EA-9CC0-346C86E26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A4C5-5E5C-440A-9F94-6624AEB8BE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395-A41A-45B5-8EB2-5C53A873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B3B-97CD-4BDB-B1BF-39FD8E1E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933-2E80-4ACF-802B-01992A50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D43-60F8-4196-9D0A-6D6043B1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D0D8-904B-4770-90EB-0EBAFDC0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7D09-FE92-465E-8A08-40FB3357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22D2-E745-43C1-9F83-F4A2EE14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92D9-803F-42B8-835A-7C9146E9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B9C2-29D1-4FF3-89C3-81290D64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52A7-1922-4769-AE48-3F115B90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7ACF-BCE7-46D7-BA11-CE539CC7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2CA-C0FF-4509-9CEE-85B76264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5E44-8EA0-4210-A002-AD335732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7C15-4674-445B-84E8-8046B97E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FA49-E2F9-42F4-8FB9-D6844284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A39C-26B5-49FE-B4D2-1E9B4E4B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8152-B27B-4CE5-93AA-27E5ED9A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880E5-4CCA-4D92-915B-3255C090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13C8-4ED4-444B-BCCE-5BED1608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9FB86-4996-4B20-9698-73A0CE4A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5CD36-DC9E-44FB-B84B-B375A2BD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B571A-0271-4364-B87B-A5A914C8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61A-0AEA-413A-9A6E-7314B21F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A081F-15FA-48A2-B00D-04801696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659E9-40F4-42BD-84A8-BEF8522A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CA4E1-43AE-47F0-99D7-2299241F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82B0E-BB72-4CF9-B023-3755BCF2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D39C-A802-4E5A-AC5F-AB1DA9F1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9B5A7-0955-42A4-BEF1-CBE21E16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B3CAE-B7D4-496E-8436-19ED882C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AE329-B76E-41DF-BA5B-255FC158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BEABB-C31B-459D-9966-F51E6443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337A1-AB13-4E05-BC2C-61382607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9E4-6091-430F-A33D-B1661BA6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0D7ED-07F7-4760-8AB1-0C540A77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9D24-F1A9-4D17-8995-CC00A725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3A4E1-FE88-4559-A3F3-040E9169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21101-31FF-4B5A-B8B3-984A0DD1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03AE5-9095-4DB2-BD5B-C36FD699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8A7BB-9D1B-4764-97DE-5A7B4702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C7329-06B5-4461-9C9F-64F06BFA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42523-0854-428E-9AD8-99FCE8DE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AA87E-1F60-48A5-BD88-920C56AB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E67-98C8-4C20-9968-6CA8C8E9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715-6669-4B05-9E62-E405DABA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CCC-15C6-420A-8313-ABA1EA3D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4109-F233-43D4-B152-A7DDEF8A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7700-E584-49DA-A21D-FC3B32F3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F029-47B4-42F2-BA7B-145FE449A19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746B-EBA0-4A3E-BE62-617B4542E5F4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AC34-987E-4906-BC9B-4D9F12D83F0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00CB-D662-46E7-99C9-B617A062C88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1433-5BBC-4768-83EE-96F0EF1CF4C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1400-901C-451D-B302-72008D01354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832F-85EB-4945-BA57-74E920D8917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1952-F688-4F4D-8C97-8352F9B8E1F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98FF-6615-4AE9-AAB3-D6EADECB7B98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ENDOCYTOSI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F5C9-B24F-4BFA-A363-BD2ADEF7D9AC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6" name="Picture 0" descr="FG05_10bp"/>
          <p:cNvPicPr/>
          <p:nvPr/>
        </p:nvPicPr>
        <p:blipFill>
          <a:blip r:embed="rId1"/>
          <a:srcRect l="0" t="0" r="0" b="4699"/>
          <a:stretch/>
        </p:blipFill>
        <p:spPr>
          <a:xfrm>
            <a:off x="1523880" y="1644480"/>
            <a:ext cx="63183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PINOCYTOSI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8054-6550-4362-8AD8-E4D01680343E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ingestion of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liquid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and its dissolved contents into a cell by the budding of small vesicles from the cell membra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ost common form of endocyto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inocytosis takes up most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rotei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and other large molecul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ften called “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ellular drinking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0" name="Picture 2" descr="FG05_10a"/>
          <p:cNvPicPr/>
          <p:nvPr/>
        </p:nvPicPr>
        <p:blipFill>
          <a:blip r:embed="rId1"/>
          <a:srcRect l="0" t="0" r="0" b="22277"/>
          <a:stretch/>
        </p:blipFill>
        <p:spPr>
          <a:xfrm>
            <a:off x="2209680" y="4038480"/>
            <a:ext cx="51818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RECEPTOR-MEDIATED ENDOCYTOSI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F556-26F2-4B06-9F43-C88102B1CCE5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pecific molecules are taken in after they bind to a recepto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ighly specific due to the use of receptor protei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4" name="Picture 2" descr="FG05_10b"/>
          <p:cNvPicPr/>
          <p:nvPr/>
        </p:nvPicPr>
        <p:blipFill>
          <a:blip r:embed="rId1"/>
          <a:srcRect l="773" t="6586" r="0" b="29942"/>
          <a:stretch/>
        </p:blipFill>
        <p:spPr>
          <a:xfrm>
            <a:off x="609480" y="3489480"/>
            <a:ext cx="757404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PHAGOCYTOSI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B92A-C2F6-4002-9874-B3F02C345F95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1600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arge, solid particles are ingested into the cell through the folding in of the cell membra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ften called “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ellular eating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8" name="Picture 9" descr="FG05_10c"/>
          <p:cNvPicPr/>
          <p:nvPr/>
        </p:nvPicPr>
        <p:blipFill>
          <a:blip r:embed="rId1"/>
          <a:srcRect l="0" t="6551" r="0" b="35942"/>
          <a:stretch/>
        </p:blipFill>
        <p:spPr>
          <a:xfrm>
            <a:off x="198360" y="3147840"/>
            <a:ext cx="89154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EXOCYTOSI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78AA-4AD8-4F87-92C8-E2B0DABA0F20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xocytosis - Molecules ar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oved out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f the cell by vesicles that fuse with the cell membra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rmones are released and nerve cells communicate with each other through exocyto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2" name="Picture 6" descr="FG05_09a"/>
          <p:cNvPicPr/>
          <p:nvPr/>
        </p:nvPicPr>
        <p:blipFill>
          <a:blip r:embed="rId1"/>
          <a:srcRect l="0" t="0" r="3150" b="7422"/>
          <a:stretch/>
        </p:blipFill>
        <p:spPr>
          <a:xfrm>
            <a:off x="2362320" y="3800520"/>
            <a:ext cx="46479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EXOCYTOSI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70B0-839D-4D4C-AA63-B1CEA6B9C5B9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25" name="Group 0"/>
          <p:cNvGrpSpPr/>
          <p:nvPr/>
        </p:nvGrpSpPr>
        <p:grpSpPr>
          <a:xfrm>
            <a:off x="1828800" y="1676520"/>
            <a:ext cx="5410080" cy="4802040"/>
            <a:chOff x="1828800" y="1676520"/>
            <a:chExt cx="5410080" cy="4802040"/>
          </a:xfrm>
        </p:grpSpPr>
        <p:pic>
          <p:nvPicPr>
            <p:cNvPr id="226" name="Picture 3" descr="FG05_09b"/>
            <p:cNvPicPr/>
            <p:nvPr/>
          </p:nvPicPr>
          <p:blipFill>
            <a:blip r:embed="rId1"/>
            <a:srcRect l="0" t="8113" r="0" b="6872"/>
            <a:stretch/>
          </p:blipFill>
          <p:spPr>
            <a:xfrm>
              <a:off x="1828800" y="1676520"/>
              <a:ext cx="5410080" cy="48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2"/>
            <p:cNvSpPr/>
            <p:nvPr/>
          </p:nvSpPr>
          <p:spPr>
            <a:xfrm>
              <a:off x="5138280" y="1728360"/>
              <a:ext cx="2049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b"/>
                  </a:solidFill>
                  <a:latin typeface="Comic Sans MS"/>
                </a:rPr>
                <a:t>Exocytic vesicle immediately after fusion with plasma membrane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 flipH="1">
              <a:off x="4501800" y="2215440"/>
              <a:ext cx="636480" cy="669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ENDOCYTOSIS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rcRect l="0" t="0" r="8323" b="3875"/>
          <a:stretch/>
        </p:blipFill>
        <p:spPr>
          <a:xfrm>
            <a:off x="3722760" y="1371600"/>
            <a:ext cx="3159000" cy="53341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1088280" y="191268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hagocytosi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087920" y="3809160"/>
            <a:ext cx="20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inocytosi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04920" y="55159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ceptor-mediate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CTIVE TRANSPOR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Active transport – movement of molecules through a membrane that requires the cell to use 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energy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Molecules move against a 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concentration gradient 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(Low concentration to high concentration)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Requires energy in the form of 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ATP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Like pedaling uphill on a bik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Types of active transport in cells: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Pumps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Endocytosis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Exocytosis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9721-89A9-4946-A4E5-A4E081C2B710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TP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ATP – short for adenosine triphospha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ATP is a compound used by cells to store and release energy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Sometimes called the 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currency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of the cell because the cell must make and spend ATP to surviv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When energy is needed by the cell, ATP molecules are 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consumed 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and turned into ADP (adenosine diphosphate). This releases energy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When we eat food, the energy is converted into a form the cell can use by the 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mitochondria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The mitochondria uses a complex system of reactions to turn ADP back into ATP for the cell to us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2693-AA87-44C8-8A8B-D8D586BFC60B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PROTEIN PUMP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480" y="16002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ump solutes or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io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from areas of low concentration to areas of high concentr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quire energy in the form of ATP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umping action is created by changing 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hap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of the protei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EBB6-4BB6-465D-952E-BB980220B26B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514600" y="3611520"/>
            <a:ext cx="436248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ODIUM-POTASSIUM PUMP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pecific type of protein pump that moves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odium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) out of the cell and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otassium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(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) into the ce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uring each cycle, 3 sodium atoms are moved out and 2 potassium atoms are moved into the ce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TP energy is used to change 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hap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of the protein, causing the pumping ac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mportant for nerve impulses and muscle contro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1DFC-7FE9-429D-BA47-3C92C2B0E57D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676520" y="1752480"/>
            <a:ext cx="5409720" cy="3504960"/>
            <a:chOff x="1676520" y="1752480"/>
            <a:chExt cx="5409720" cy="3504960"/>
          </a:xfrm>
        </p:grpSpPr>
        <p:pic>
          <p:nvPicPr>
            <p:cNvPr id="190" name="Picture 3" descr="channel"/>
            <p:cNvPicPr/>
            <p:nvPr/>
          </p:nvPicPr>
          <p:blipFill>
            <a:blip r:embed="rId1"/>
            <a:stretch/>
          </p:blipFill>
          <p:spPr>
            <a:xfrm>
              <a:off x="1771560" y="1911600"/>
              <a:ext cx="5314680" cy="33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4"/>
            <p:cNvSpPr/>
            <p:nvPr/>
          </p:nvSpPr>
          <p:spPr>
            <a:xfrm>
              <a:off x="1676520" y="1752480"/>
              <a:ext cx="1328400" cy="350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ODIUM-POTASSIUM PUMP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ODIUM-POTASSIUM PUMP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B62E-BFBC-47AB-9A7E-33B516512283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286000" y="1569960"/>
            <a:ext cx="458136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ENDOCYTOSIS AND EXOCYTOSI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ndocytosis and exocytosis allow the passage of particles that are too big to pass through 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ell membrane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r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rotein channel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2120-A1B3-4A83-8084-FA64804E950B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9" name="Picture 4" descr="endocytosis"/>
          <p:cNvPicPr/>
          <p:nvPr/>
        </p:nvPicPr>
        <p:blipFill>
          <a:blip r:embed="rId1"/>
          <a:stretch/>
        </p:blipFill>
        <p:spPr>
          <a:xfrm>
            <a:off x="2209680" y="2895480"/>
            <a:ext cx="48769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ENDOCYTOSI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573B-C8EB-4716-B37F-71D09D78F773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9480" y="159984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Endocytosi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– transporting large molecules into a cell by the folding in of the cell membra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3 types of endocyto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inocyto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ceptor-mediated endocyto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hagocyto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3" name="Picture 7" descr="endocyctosis"/>
          <p:cNvPicPr/>
          <p:nvPr/>
        </p:nvPicPr>
        <p:blipFill>
          <a:blip r:embed="rId1"/>
          <a:stretch/>
        </p:blipFill>
        <p:spPr>
          <a:xfrm>
            <a:off x="4343400" y="3886200"/>
            <a:ext cx="44956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00:01:06Z</dcterms:created>
  <dc:creator>Ben</dc:creator>
  <dc:description/>
  <dc:language>en-US</dc:language>
  <cp:lastModifiedBy>Ben</cp:lastModifiedBy>
  <dcterms:modified xsi:type="dcterms:W3CDTF">2012-10-14T22:59:15Z</dcterms:modified>
  <cp:revision>23</cp:revision>
  <dc:subject/>
  <dc:title>Passive Transport</dc:title>
</cp:coreProperties>
</file>